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051C-7C26-48D9-ACE0-4335478FAB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3DF2-74E1-471A-A4B2-54D61D2C659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A9A2-9BFA-466A-BE66-E54A8BA0875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A313-9036-4836-984D-2298644A62E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E928-F6EA-4D06-8C82-C81A1E48A26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E837-9828-4140-A4B9-5F82098E40E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C4AD-D357-4128-81A6-037B33EEE30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876-7710-4A3B-B0E1-412AFC1A29F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8EE1-8067-4DEF-8FF0-563623FFC85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571E-96F8-4E81-8E10-9D6AA02300E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ED38-CA9B-410A-862C-97328FD0967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B12-128D-4CF5-9169-C2DCD147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931-60FA-45D9-9536-13F599F0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736-67EC-4A17-93F8-5C8BFD4E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0C5-7A80-4B96-BC7C-AAA8FCFF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0D9E-5345-4CBD-BD30-B4F34003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8E77-5573-4636-8BE0-305E0401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9026-2AC0-46C0-9D55-F60E5824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8FF1-2D7E-4A8C-80DE-425175D0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4961-D3C8-462A-BDFA-32A78EF9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A8BB-5E99-4D34-B669-89227AEF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2CA8-E617-44F3-AC06-997F0154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FCD-3D65-48F9-A09F-744D4D87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BA5D-48F1-4D66-B99E-F9A7CAA4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737B-D29B-4C75-BB52-D5A3C922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4497-0903-4B54-822E-C31801BC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09A2-B2E2-4501-8D2C-11614E7F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FAF6-913D-4467-AD90-C3A2DC69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7256-65CD-4E02-8C49-A7CC229B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1616-C2EF-4CC4-BE31-8CFA9508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44DB-80AE-498E-8053-7F742AA3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7196-C11D-49CE-B298-EB581737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940D-7CEF-4B81-BBA5-BDB2B482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D45-14F4-4743-B8E3-6FCB69F5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7DED-06BD-46B9-AB0D-16317492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34E8-6F02-4C42-B411-788F1375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5475-0208-4414-832F-F7661B71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05C7-AD88-4CD7-A27D-809643F9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AE23-4C01-4735-B974-4CFA5230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B037-2669-4C9B-9E6C-4848AD0F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BDF1-B07D-49DB-B4F2-69BE57BD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2F1-3EAF-4177-8AB9-AE1FAB89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BE4-8184-41E2-951B-613A9945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0F1-F154-4F89-93FD-6C166E15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AF5-1907-4142-83EE-8264293E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3C7-AF85-45DC-93CA-8E166A30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8B5-A2D0-45ED-AABB-3B63F8F9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1027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2" name="Freeform 1028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1030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" name="AutoShape 1031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035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1936-BA7C-4E0F-A2C1-E161BF5BD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D8A3-9CAE-46DB-A71B-5E30670117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EC4C-82BB-4D9A-B0A8-98642261D8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76360" y="2852640"/>
            <a:ext cx="648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6021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10"/>
                </a:solidFill>
                <a:latin typeface="Arial"/>
              </a:rPr>
              <a:t>Бизнес-пла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1773360"/>
            <a:ext cx="59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Детский сад «Золотой ключик»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WOT-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нализ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39640" y="1268280"/>
          <a:ext cx="7677000" cy="5316480"/>
        </p:xfrm>
        <a:graphic>
          <a:graphicData uri="http://schemas.openxmlformats.org/drawingml/2006/table">
            <a:tbl>
              <a:tblPr/>
              <a:tblGrid>
                <a:gridCol w="3913200"/>
                <a:gridCol w="376380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имуществ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сутствие аналогов в городе;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окачественно оборудованные комнаты;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оквалифицированный персона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ширение спектра услуг ( развивающих и оздоровительных)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 досуга детей вне территории Детского сада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к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оз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и материальное обеспечение Детского сада  требует  вложения крупных денежных средств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и обязаны ежегодно выплачивать  денежную сумму в 110.000 руб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бор детей в первый год открытия Детского сада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Неокупаемость  вложенных средств на строительство вследствие  банкротства 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6880" y="214200"/>
            <a:ext cx="7086600" cy="12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и и зада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557360"/>
          <a:ext cx="8572680" cy="4750920"/>
        </p:xfrm>
        <a:graphic>
          <a:graphicData uri="http://schemas.openxmlformats.org/drawingml/2006/table">
            <a:tbl>
              <a:tblPr/>
              <a:tblGrid>
                <a:gridCol w="2214720"/>
                <a:gridCol w="2500200"/>
                <a:gridCol w="2071800"/>
                <a:gridCol w="1785960"/>
              </a:tblGrid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59"/>
                          </a:solidFill>
                          <a:latin typeface="Arial"/>
                        </a:rPr>
                        <a:t>1 го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59"/>
                          </a:solidFill>
                          <a:latin typeface="Arial"/>
                        </a:rPr>
                        <a:t>2 го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59"/>
                          </a:solidFill>
                          <a:latin typeface="Arial"/>
                        </a:rPr>
                        <a:t>3 го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59"/>
                          </a:solidFill>
                          <a:latin typeface="Arial"/>
                        </a:rPr>
                        <a:t>4 го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бор документов 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ирование здания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упка земли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лечение спонсоров и муниципалитет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ительство(здание,  игровая площадка)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ор персонала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уск реклам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ор детей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лечение потенциальных потребителей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ширение рекламы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лата % по кредит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ор детей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величение спектра услуг: медицинских (создание спелеокамеры), развивающих (танцевальный кружок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Требуемые ресурс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b7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трудники организа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428840"/>
            <a:ext cx="896472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сновной состав: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Приходящий персона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ведующая                                            </a:t>
            </a: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Учитель англий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ведующий хозяйством                     </a:t>
            </a: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 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Работники коммунальных услуг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воспитателей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 помощников воспитателя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дицинский работник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узыкальный работник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спитатель по физической куль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повара                  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 перспектив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охранника  </a:t>
            </a:r>
            <a:r>
              <a:rPr b="1" lang="en-US" sz="1800" spc="-1" strike="noStrike">
                <a:solidFill>
                  <a:srgbClr val="ffff59"/>
                </a:solidFill>
                <a:latin typeface="Arial"/>
              </a:rPr>
              <a:t>                                                     </a:t>
            </a: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ореогра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лот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тодист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орник</a:t>
            </a: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мещение, мебель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 оборуд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672400" cy="510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етском саду для детей должны быть оборудованы мес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Для развивающих занятий и свободных игр (игрушки, канцелярия, методические пособия, детская мебель и оборудование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Для музыкальных занятий и двигательной активности ( рабочее место с музыкальным инструментом для педагога, детские музыкальные инструменты, игрушки и оборудование для физических занятий и подвижных игр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сна ( кровати, постельное бельё не менее чем 2 комплекта на ребёнк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 Для хранения верхней и сменной одежды ( индивидуальные шкафчики, детские диванчик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Для приема пищи ( посуда, приборы, мебель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Для санитарно-гигиенических процедур ( горшки и\или детские унитазы, полотенца, хозяйственные принадлежност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ме того, в саду должны быть оборудованы рабочие места с целью сопровождения дете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ищеблок ( посуда для приготовления пищи, бытовая техника, мебель, спецодежда и прочее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дицинский кабинет (мебель, специальная мебель и медицинское оборудование, медикаменты и приборы, холодильник, спецодежда и прочее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чечная ( стиральная машина, гладильная доска, утюг, спецодежд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бинет администрации  (мебель, оргтехника, канцелярия и друг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Педагогические технологии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овать студийную и кружковую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ть предметно-развивающую сре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орудовать музыкальный и спортивный залы, художественно-творческую мастерскую, комнату иг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аботать программы на основе современных здоровьесберегающих технолог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йствовать на уровне программ европейского образ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нешние требования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2600" y="1714320"/>
            <a:ext cx="807228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ты питания: договор с торговой компанией «Этно» (Советский проспект, 8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ое обслуживание: договор с больницей о найме медперсонала для обследования и оздоровления детей (педиатр, зубной врач, врач ЛФК и друг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говор с охранным агентством о предоставлении требуемого персон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рганизационный пл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8080" y="1483920"/>
            <a:ext cx="8845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 Сбор необходимых  документо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гос.регистрация (регистрация в пенсионном фонде, фонде обязательного медицинского  страхования, соц.страхования, налоговых органах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 Строительство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строительство помещения и детской площад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проверка СЭС и представителей пожарных и иных ведомст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 Получение лиценз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. Ремонт помещени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оснащение Детского сада необходимым оборудованием и мебелью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. Набор необходимого персонал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.Мероприятия по продвижению детского са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7. Набор дет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Маркетинговая смесь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ов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разовательная услуга учреждения дошкольного образ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Цена услу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Ежегодный взнос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0.000 руб. ( 50.000 в начале года и 5.000 руб. ежемесячно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родви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еклама в СМИ, организация  встреч родителей с педагогическим коллективом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нтральный район города или место, выделенное муниципалите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вторы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игабова Екатер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юкова А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щеева Ма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олотухина Вален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чанова Евг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яндина Ма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ьзоркина Ан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Финансовый пл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Капитальные затра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Строительство помещения: 700м.кв. х 18.000=12.600.00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Ремонт и оборудование: 2.000.000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Оборудование детской площадки: 1.000.00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Итого: 15.600.000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Текущие затра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Заработная плата: 28 сотрудников х 10.000 х 12мес.=3.360.000 руб. в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Коммунальные услуги: 650.000 в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Питание: 2.000тыс.р х 100 чел. х 12 мес. = 2.400.000 руб. в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Текущий ремонт (2% от капитальных затрат): 15.600.000/100 х 2=360.000руб. в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Амортизация здания (50 лет): 12.600.000/50 = 252.000 руб. в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мортизация мебели и оборудования (5 лет): 2.000.000/5 = 400.000 руб. в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мортизация детской площадки (10 лет): 1.000.000/10 = 100.000 руб. в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щая сумма текущих затрат: 7.522.000 руб. в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Прочее (5% от суммы текущих затрат): 7.522.000/100 х 5=376.100 руб. в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Итого: 8.000.000 руб. в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Ежегодная прибыл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= общие затраты/срок окупаемости, следовательно, 23.600.000/10 лет + 8.000.000 = 11.000.000 руб. в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Расчет на ребенка в год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11.000.000/100 = 110.000 руб. ( 50.000 руб.- ежегодный взнос и 5.000 руб. ежемесячно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933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564000" y="2681280"/>
            <a:ext cx="558000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227480" cy="6165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4581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780000" y="2708280"/>
            <a:ext cx="536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ная це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оставление услуг дошкольного образования по европейскому образцу                                               (высококвалифицированный персонал; благоприятный микроклимат в детских группах; предоставление услуг, связанных с развитием и образованием детей; использование современных методов воспитания, применяемых в Европ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54936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520" y="1125360"/>
            <a:ext cx="87454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роцессе развития планируется благоустраивать территории и игровые площадки малыми архитектурными формами, приобретать необходимое медицинское оборудован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бзор рын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намика развития рын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 настоящее время в г.Березники существует около 100 детских садов. На сегодняшний день практически ни одно учреждение не продолжает свое развитие, т.е. не расширяет спектр услу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аиболее успешным в данной области является Детский сад №59, поскольку это учреждение достаточно обеспечено технологическими, образовательными и, главное, денежными ресурс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26920" y="620640"/>
            <a:ext cx="7274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г.Березники остро стоит проблема нехватки дошкольных образовательных учреждений, поэтому конкурентоспособность других Детских садов сводится к минимуму. Более того, наше учреждение предлагает такие услуги, которые заинтересуют потреби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213000"/>
            <a:ext cx="7848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Ни для кого не секрет, что огромное количество семей стоит в очереди, чтобы устроить своего ребенка в Детский сад, хотя достаточное количество родителей в состоянии оплатить услуги нашего образовательного учреждения. Мы гарантируем потребителям, что уровень сервиса будет оправдывать соответствующей сумме денег, требуемой к оплате услуг Детского сада «Золотой ключик»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исание товара или услуг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мотр и уход за дет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ые услуги: изучение иностранного языка, развитие талантов детей путем создания разнообразных кружков: спортивного, интеллектуального и творческого характера, подготовка детей к начальной школ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здоровительные услуги: ежедневная утренняя зарядка, проведение процедур закаливания, работа с психологом и логопедом, ежегодное полное медицинское обследование, лечебная физическая культура (ЛФК), масса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нцепция бизне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56840"/>
            <a:ext cx="8161560" cy="53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концепции развития системы дошкольного образования обусловлена необходимостью разрешения проблемы обеспечения местами в дошкольных образовательных учреждениях населения в г.Березники и реализацией принципа доступности образовательных услуг для дошкольников. Мы ставим перед собой ряд задач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евременно ввести текущий капитальный ремонт з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обретать необходимое технологическое , медицинское,  спортивное оборудование; мягкий инвентарь; игровой, дидактический, методический материа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агоустраивать игровые площадки на территории Детского сада « Золотой ключик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нкурентоспособ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428480"/>
            <a:ext cx="8448840" cy="50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г. Березники  на протяжении многих лет существует проблема нехватки мест в дошкольных образовательных учреждениях.  Поэтому  созданный  нами Детский сад будет пользоваться  спросом на этом рынке услуг,  более того, высокий уровень сервиса привлечет много семей , обремененных проблемой неустроенности ребенка в Детский сад.  Наше учреждение не будет иметь аналогов, поскольку только  мы предлагаем воспитание и обучение детей по европейскому образцу, а постоянное развитие будет только повышать нашу конкурентоспособност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6:24:46Z</dcterms:created>
  <dc:creator>Елена</dc:creator>
  <dc:description/>
  <dc:language>en-US</dc:language>
  <cp:lastModifiedBy>User</cp:lastModifiedBy>
  <dcterms:modified xsi:type="dcterms:W3CDTF">2008-07-18T08:11:46Z</dcterms:modified>
  <cp:revision>27</cp:revision>
  <dc:subject/>
  <dc:title>[Предприятие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