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5EF2-0BE3-43D1-8BBF-7721917F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8203-6FE5-409F-BC06-8894FC49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F619-153D-4B34-AB05-532F53A0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47FF-76A2-44CD-B477-CD901C0F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CDC4-0A83-4CD9-8B8D-3437D0FB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5DDD-3531-4347-8C5B-83972D88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CA93-8FF0-4D79-A76C-082216F5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2B59-C9E3-4D6C-90F5-07EF89FD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3DA1-2E79-4CD7-91CC-E9AE58D3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A6CA-2626-4532-A2B9-FEDC28A9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0785-1402-4B3F-9E7D-2DDB9B7E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335C-3757-435A-892A-E620760C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7D39-0E9C-42EA-A31F-4E533DBE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BB6C-30E5-4898-B115-C7D58C4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141C-345B-4613-8901-9FA00121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21CB-3702-4460-9C67-E1F64509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A11E-D403-4B09-8AE6-E14E95AB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DCEE-73EC-4A8A-9AB2-92998D7E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BC3B-5160-4B1F-95CC-62EA7886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DA5A-59E3-42C7-B1CF-BBE92ED7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CD96-3173-49B2-9BD0-12B6B082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77DE-F190-45F5-B0F9-25A38A19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40D5-64E3-4676-9594-A5BB1733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176F-18D6-4939-9D11-E8AF1550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C86B-FD2D-4A50-A553-A9C6151CA2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8DE8-0517-45F9-BD3A-A4EED467AF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роизводная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339640" y="4292640"/>
            <a:ext cx="6553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гебра и начала анализа 11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Симатова Марин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ите устно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производную функ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 3x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2x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g 2x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tg 5x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 (-2x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(-3x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g (-3x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ctg (-2x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16436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производную частног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Ответ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Ответ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187280" y="1773360"/>
                <a:ext cx="12240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187280" y="2924280"/>
                <a:ext cx="12240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187280" y="5157720"/>
                <a:ext cx="12240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5" name=""/>
          <p:cNvGraphicFramePr/>
          <p:nvPr/>
        </p:nvGraphicFramePr>
        <p:xfrm>
          <a:off x="5867280" y="1628640"/>
          <a:ext cx="144000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628640"/>
                    <a:ext cx="144000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867280" y="2708280"/>
          <a:ext cx="1440000" cy="11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708280"/>
                    <a:ext cx="14400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116000" y="4076640"/>
          <a:ext cx="1224000" cy="11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4076640"/>
                    <a:ext cx="1224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796000" y="3789360"/>
          <a:ext cx="1584360" cy="119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0" y="3789360"/>
                    <a:ext cx="158436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867280" y="5084640"/>
          <a:ext cx="1584360" cy="127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5084640"/>
                    <a:ext cx="158436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81200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производную произвед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700280"/>
          <a:ext cx="381960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1960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948360" y="1700280"/>
          <a:ext cx="144000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700280"/>
                    <a:ext cx="1440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7093080" y="2708280"/>
          <a:ext cx="1065240" cy="92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2708280"/>
                    <a:ext cx="106524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7020000" y="4221000"/>
          <a:ext cx="194292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4221000"/>
                    <a:ext cx="1942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192720" y="4797360"/>
          <a:ext cx="2951280" cy="66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92720" y="4797360"/>
                    <a:ext cx="29512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308720" y="558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дите значени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при которых производная функции равна ну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0; 1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-3; 1,2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2133720"/>
          <a:ext cx="471312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471312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Найдите производные функц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А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А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55640" y="2924280"/>
                <a:ext cx="3095640" cy="18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76720" y="2852640"/>
                <a:ext cx="331632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716436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Найдите производные функц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В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В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11280" y="2781360"/>
          <a:ext cx="360036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81360"/>
                    <a:ext cx="360036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148360" y="2781360"/>
          <a:ext cx="3276360" cy="20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781360"/>
                    <a:ext cx="327636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738036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Найдите производные функц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С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С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26920" y="2637000"/>
          <a:ext cx="360072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637000"/>
                    <a:ext cx="360072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856040" y="2708280"/>
          <a:ext cx="346392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040" y="2708280"/>
                    <a:ext cx="346392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44364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Найдит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ес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А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А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564000" y="620640"/>
          <a:ext cx="194472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620640"/>
                    <a:ext cx="1944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8360" y="2637000"/>
                <a:ext cx="3959280" cy="29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703760" y="2637000"/>
                <a:ext cx="3986280" cy="29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7524720" y="5734080"/>
            <a:ext cx="863640" cy="9698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69840"/>
              <a:gd name="textAreaBottom" fmla="*/ 914040 h 969840"/>
            </a:gdLst>
            <a:ahLst/>
            <a:rect l="textAreaLeft" t="textAreaTop" r="textAreaRight" b="textAreaBottom"/>
            <a:pathLst>
              <a:path w="21600" h="24255">
                <a:moveTo>
                  <a:pt x="0" y="0"/>
                </a:moveTo>
                <a:lnTo>
                  <a:pt x="21600" y="0"/>
                </a:lnTo>
                <a:lnTo>
                  <a:pt x="21600" y="24255"/>
                </a:lnTo>
                <a:lnTo>
                  <a:pt x="0" y="24255"/>
                </a:lnTo>
                <a:close/>
              </a:path>
              <a:path fill="lightenLess" w="21600" h="242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5">
                <a:moveTo>
                  <a:pt x="21600" y="0"/>
                </a:moveTo>
                <a:lnTo>
                  <a:pt x="21600" y="24255"/>
                </a:lnTo>
                <a:lnTo>
                  <a:pt x="20200" y="22855"/>
                </a:lnTo>
                <a:lnTo>
                  <a:pt x="20200" y="1400"/>
                </a:lnTo>
                <a:close/>
              </a:path>
              <a:path fill="darkenLess" w="21600" h="24255">
                <a:moveTo>
                  <a:pt x="21600" y="24255"/>
                </a:moveTo>
                <a:lnTo>
                  <a:pt x="0" y="24255"/>
                </a:lnTo>
                <a:lnTo>
                  <a:pt x="1400" y="22855"/>
                </a:lnTo>
                <a:lnTo>
                  <a:pt x="20200" y="22855"/>
                </a:lnTo>
                <a:close/>
              </a:path>
              <a:path fill="lighten" w="21600" h="24255">
                <a:moveTo>
                  <a:pt x="0" y="242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5"/>
                </a:lnTo>
                <a:close/>
              </a:path>
              <a:path fill="darken" w="21600" h="24255">
                <a:moveTo>
                  <a:pt x="3794" y="5121"/>
                </a:moveTo>
                <a:lnTo>
                  <a:pt x="17806" y="12127"/>
                </a:lnTo>
                <a:lnTo>
                  <a:pt x="3794" y="1913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Найдит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ес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В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В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780000" y="765000"/>
          <a:ext cx="165564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765000"/>
                    <a:ext cx="16556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684360" y="2852640"/>
          <a:ext cx="3528720" cy="277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852640"/>
                    <a:ext cx="35287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944960" y="2876400"/>
          <a:ext cx="3503880" cy="272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44960" y="2876400"/>
                    <a:ext cx="350388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7308720" y="5734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сновные це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26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понятия производ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ить нахождение производных с использованием формул и правил дифференцирова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Найдит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ес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С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С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635280" y="476280"/>
          <a:ext cx="17272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476280"/>
                    <a:ext cx="1727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93680" y="2778120"/>
          <a:ext cx="4162320" cy="29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680" y="2778120"/>
                    <a:ext cx="416232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643280" y="2708280"/>
          <a:ext cx="4294440" cy="322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708280"/>
                    <a:ext cx="429444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7740720" y="5950080"/>
            <a:ext cx="934920" cy="609480"/>
          </a:xfrm>
          <a:custGeom>
            <a:avLst/>
            <a:gdLst>
              <a:gd name="textAreaLeft" fmla="*/ 39240 w 934920"/>
              <a:gd name="textAreaRight" fmla="*/ 895680 w 934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3127" h="21600">
                <a:moveTo>
                  <a:pt x="0" y="0"/>
                </a:moveTo>
                <a:lnTo>
                  <a:pt x="33127" y="0"/>
                </a:lnTo>
                <a:lnTo>
                  <a:pt x="33127" y="21600"/>
                </a:lnTo>
                <a:lnTo>
                  <a:pt x="0" y="21600"/>
                </a:lnTo>
                <a:close/>
              </a:path>
              <a:path fill="lightenLess" w="33127" h="21600">
                <a:moveTo>
                  <a:pt x="0" y="0"/>
                </a:moveTo>
                <a:lnTo>
                  <a:pt x="33127" y="0"/>
                </a:lnTo>
                <a:lnTo>
                  <a:pt x="31727" y="1400"/>
                </a:lnTo>
                <a:lnTo>
                  <a:pt x="1400" y="1400"/>
                </a:lnTo>
                <a:close/>
              </a:path>
              <a:path fill="darken" w="33127" h="21600">
                <a:moveTo>
                  <a:pt x="33127" y="0"/>
                </a:moveTo>
                <a:lnTo>
                  <a:pt x="33127" y="21600"/>
                </a:lnTo>
                <a:lnTo>
                  <a:pt x="31727" y="20200"/>
                </a:lnTo>
                <a:lnTo>
                  <a:pt x="31727" y="1400"/>
                </a:lnTo>
                <a:close/>
              </a:path>
              <a:path fill="darkenLess" w="33127" h="21600">
                <a:moveTo>
                  <a:pt x="33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27" y="20200"/>
                </a:lnTo>
                <a:close/>
              </a:path>
              <a:path fill="lighten" w="33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127" h="21600">
                <a:moveTo>
                  <a:pt x="9557" y="3794"/>
                </a:moveTo>
                <a:lnTo>
                  <a:pt x="23570" y="10800"/>
                </a:lnTo>
                <a:lnTo>
                  <a:pt x="955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Решите уравнен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ес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А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А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867280" y="476280"/>
          <a:ext cx="194652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76280"/>
                    <a:ext cx="19465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39640" y="2997360"/>
                <a:ext cx="34578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41920" y="2997360"/>
                <a:ext cx="35496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7093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358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Составьте и решите урав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В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В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73040" y="2719440"/>
          <a:ext cx="365940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2719440"/>
                    <a:ext cx="36594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803840" y="2575080"/>
          <a:ext cx="392580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3840" y="2575080"/>
                    <a:ext cx="39258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680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Составьте и решите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С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С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95280" y="2509920"/>
          <a:ext cx="3600360" cy="31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09920"/>
                    <a:ext cx="360036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5003640" y="2565360"/>
          <a:ext cx="3600720" cy="318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565360"/>
                    <a:ext cx="360072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02000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1936" y="10800"/>
                </a:moveTo>
                <a:lnTo>
                  <a:pt x="25949" y="3794"/>
                </a:lnTo>
                <a:lnTo>
                  <a:pt x="25949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итерии оценивания самостоятельн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ое задание уровня А оценивается в 2 бал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ое задание уровня В оценивается в 3 бал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ое задание уровня С оценивается в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826920" y="1197000"/>
          <a:ext cx="7859880" cy="465444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208908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3600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балл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3600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3600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3600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А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А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187280" y="1773360"/>
                <a:ext cx="2305080" cy="46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148360" y="1557360"/>
                <a:ext cx="3095640" cy="44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В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412640"/>
            <a:ext cx="40384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В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332000" y="2060640"/>
                <a:ext cx="2867040" cy="39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527800" y="1781280"/>
                <a:ext cx="283032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7,5</m:t>
                        </m:r>
                        <m:r>
                          <m:t xml:space="preserve">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С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С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042920" y="2565360"/>
                <a:ext cx="2543400" cy="34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х</m:t>
                                </m:r>
                              </m:e>
                            </m:rad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35640" y="2708280"/>
                <a:ext cx="2212920" cy="31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,5</m:t>
                        </m:r>
                        <m:r>
                          <m:t xml:space="preserve">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льзуясь определением, найдите производную функ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в точке х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=       - х, 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=     +1, 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-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айдите производные фун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оставьте и решите уравн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Составьте и решите неравен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403280" y="2637000"/>
          <a:ext cx="3636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37000"/>
                    <a:ext cx="3636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940360" y="2565360"/>
          <a:ext cx="265320" cy="6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2565360"/>
                    <a:ext cx="2653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900000" y="3645000"/>
          <a:ext cx="4896000" cy="71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645000"/>
                    <a:ext cx="48960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826920" y="4581360"/>
          <a:ext cx="3816360" cy="65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581360"/>
                    <a:ext cx="381636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116000" y="5734080"/>
          <a:ext cx="2735280" cy="86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5734080"/>
                    <a:ext cx="27352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дифференц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92240" y="1981080"/>
          <a:ext cx="51595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2240" y="1981080"/>
                    <a:ext cx="51595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 и начала анализа. 11 класс: Учеб. для общеобразоват. учреждений/[Ю.М. Колягин, Ю.В. Сидоров, М.В. Ткачёва, Н.Е. Фёдорова и М.И. Шабунин]. – М.: Мнемозина, 2002.- 2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ршова А.П. Самостоятельные и контрольные работы по алгебре и началам анализа для 10-11 классов.[А.П.Ершова, В.В. Голобородько]. – М.: Илекса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влев Б.М. и др. Дидактические материалы по алгебре и началам анализа для 11 класса./ [Б.М. Ивлев, С.М. Саакян, С.И. Шварцбурд]. – М.: Просвещение, 2003. – 19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ьячков А.К. Единый государственный экзамен. Математика: Справочные материалы, контрольно-тренировочные упражнения, задачи с развернутым ответом; в 2-х частях.[Текст] /[ А.К.Дьячков, Н.И. Иконникова, Е.В. Морозова, В.М.Казак ], под общ. ред. А.К.Дьячкова. – Челябинск: Взгляд, 200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8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8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изводная сложной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55640" y="1484280"/>
          <a:ext cx="1209672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1209672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блица произв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55640" y="907920"/>
          <a:ext cx="496728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7920"/>
                    <a:ext cx="496728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7524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692360" y="404640"/>
          <a:ext cx="540072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04640"/>
                    <a:ext cx="540072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258920" y="404640"/>
          <a:ext cx="4608360" cy="619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04640"/>
                    <a:ext cx="460836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596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68360" y="549360"/>
          <a:ext cx="532764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532764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ите устно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производную функ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1987560"/>
          <a:ext cx="446400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7560"/>
                    <a:ext cx="446400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94836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5:00:50Z</dcterms:created>
  <dc:creator>1</dc:creator>
  <dc:description/>
  <dc:language>en-US</dc:language>
  <cp:lastModifiedBy>1</cp:lastModifiedBy>
  <dcterms:modified xsi:type="dcterms:W3CDTF">2007-06-20T12:46:54Z</dcterms:modified>
  <cp:revision>8</cp:revision>
  <dc:subject/>
  <dc:title>Производная </dc:title>
</cp:coreProperties>
</file>