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14F-E0B2-4896-89A7-27C68632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B1A-10E6-4513-9DEA-4F64E5E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1AA-3A4C-425D-A5A0-81D57DBE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45A-2D67-48B7-B2C5-7BE59A71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78B-1E0C-4C24-9077-DF494AF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87-25A8-4829-9D85-C794E40D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401-2379-4B55-8BF1-3F7B5A19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C6D-ABB0-4B2C-9B4F-373787B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2BC-FF14-4E05-9454-5ACA8CB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77A-C3AC-42DB-A58B-4223061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FDD-6987-4092-93D2-569694B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53C-8794-46F4-B931-05BFAF1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6281-40D8-4B2B-9218-5909FC077A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676520"/>
            <a:ext cx="73152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Пти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  <p:sp>
        <p:nvSpPr>
          <p:cNvPr id="42" name=""/>
          <p:cNvSpPr/>
          <p:nvPr/>
        </p:nvSpPr>
        <p:spPr>
          <a:xfrm>
            <a:off x="914760" y="380880"/>
            <a:ext cx="770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отряд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5000" y="17136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Гусеобраз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Шилохвость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2320" y="137160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илохвость(ут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Гусь%20бел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8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59436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сь б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Лебедь-шипун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685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147440" y="1238400"/>
            <a:ext cx="160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ебедь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ипу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320" y="4428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Дневные хищ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Кондор" descr=""/>
          <p:cNvPicPr/>
          <p:nvPr/>
        </p:nvPicPr>
        <p:blipFill>
          <a:blip r:embed="rId2"/>
          <a:stretch/>
        </p:blipFill>
        <p:spPr>
          <a:xfrm>
            <a:off x="0" y="762120"/>
            <a:ext cx="597996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9320" y="9907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д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Гарпия" descr=""/>
          <p:cNvPicPr/>
          <p:nvPr/>
        </p:nvPicPr>
        <p:blipFill>
          <a:blip r:embed="rId3"/>
          <a:stretch/>
        </p:blipFill>
        <p:spPr>
          <a:xfrm>
            <a:off x="4944960" y="1066680"/>
            <a:ext cx="4199040" cy="5791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13360" y="1085760"/>
            <a:ext cx="15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арп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Орлан%20белоголов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000" y="6278400"/>
            <a:ext cx="39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лан-белогол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арыч%20ямайский,%20или%20краснохвостый" descr=""/>
          <p:cNvPicPr/>
          <p:nvPr/>
        </p:nvPicPr>
        <p:blipFill>
          <a:blip r:embed="rId2"/>
          <a:stretch/>
        </p:blipFill>
        <p:spPr>
          <a:xfrm>
            <a:off x="3679920" y="0"/>
            <a:ext cx="54640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Птица-секретарь2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160" y="5638680"/>
            <a:ext cx="33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тица-секрет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46600" y="6278400"/>
            <a:ext cx="43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рыч краснохвост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тервятник%20обыкновенн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06400" y="5562720"/>
            <a:ext cx="53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ервятник обыкно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840" y="12060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урооб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Цесарка%20обыкновенная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80760" y="5353200"/>
            <a:ext cx="28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Цесар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ыкнове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авлин%20обыкновенн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1760" y="6278400"/>
            <a:ext cx="45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влин обыкно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Павлин%20обыкновенный3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Индейка%20обыкновенная%20(самец)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8680" y="611496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дейка обыкновенная(самец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8360" y="19692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Воробьинообразные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тыс. в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Свиристель" descr=""/>
          <p:cNvPicPr/>
          <p:nvPr/>
        </p:nvPicPr>
        <p:blipFill>
          <a:blip r:embed="rId2"/>
          <a:stretch/>
        </p:blipFill>
        <p:spPr>
          <a:xfrm>
            <a:off x="0" y="896760"/>
            <a:ext cx="6400800" cy="596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6360" y="113364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ирис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Домашняя%20канарейка" descr=""/>
          <p:cNvPicPr/>
          <p:nvPr/>
        </p:nvPicPr>
        <p:blipFill>
          <a:blip r:embed="rId3"/>
          <a:stretch/>
        </p:blipFill>
        <p:spPr>
          <a:xfrm>
            <a:off x="4863960" y="1981080"/>
            <a:ext cx="4280040" cy="487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29880" y="2057400"/>
            <a:ext cx="191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омашня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анарей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4200" y="4428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Аистооб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Цапля%20белая%20большая2" descr=""/>
          <p:cNvPicPr/>
          <p:nvPr/>
        </p:nvPicPr>
        <p:blipFill>
          <a:blip r:embed="rId2"/>
          <a:stretch/>
        </p:blipFill>
        <p:spPr>
          <a:xfrm>
            <a:off x="0" y="650880"/>
            <a:ext cx="7696080" cy="6207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32840" y="5429160"/>
            <a:ext cx="25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апля бел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ьш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Аист%20бел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360" y="6278400"/>
            <a:ext cx="23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ист бел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колпица%20розовая2" descr=""/>
          <p:cNvPicPr/>
          <p:nvPr/>
        </p:nvPicPr>
        <p:blipFill>
          <a:blip r:embed="rId2"/>
          <a:stretch/>
        </p:blipFill>
        <p:spPr>
          <a:xfrm>
            <a:off x="0" y="0"/>
            <a:ext cx="49928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37720" y="601992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пица роз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Выпь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6560" y="2476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" y="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Голубеоб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Голубь%20странствующий%20(окончательно%20вымер%20в%201914%20году)" descr=""/>
          <p:cNvPicPr/>
          <p:nvPr/>
        </p:nvPicPr>
        <p:blipFill>
          <a:blip r:embed="rId2"/>
          <a:stretch/>
        </p:blipFill>
        <p:spPr>
          <a:xfrm>
            <a:off x="4214880" y="0"/>
            <a:ext cx="492912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26480" y="5962680"/>
            <a:ext cx="45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лубь странствующ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Голубь%20сизый" descr=""/>
          <p:cNvPicPr/>
          <p:nvPr/>
        </p:nvPicPr>
        <p:blipFill>
          <a:blip r:embed="rId3"/>
          <a:stretch/>
        </p:blipFill>
        <p:spPr>
          <a:xfrm>
            <a:off x="0" y="2209680"/>
            <a:ext cx="5079960" cy="361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440" y="581040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лубь сиз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92160" y="3808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5280" y="-31680"/>
            <a:ext cx="38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. Дятлооб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Тукан%20радужный" descr=""/>
          <p:cNvPicPr/>
          <p:nvPr/>
        </p:nvPicPr>
        <p:blipFill>
          <a:blip r:embed="rId2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080" y="1009800"/>
            <a:ext cx="33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кан радуж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2760" y="19080"/>
            <a:ext cx="23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Кукуш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Обыкновенная%20кукушка%20(Cuculus%20canorus%20L.)" descr="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5357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04800" y="324000"/>
            <a:ext cx="28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ыкнове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Кукушка%20калифорнийская%20земляная,%20или%20бегающая" descr=""/>
          <p:cNvPicPr/>
          <p:nvPr/>
        </p:nvPicPr>
        <p:blipFill>
          <a:blip r:embed="rId3"/>
          <a:stretch/>
        </p:blipFill>
        <p:spPr>
          <a:xfrm>
            <a:off x="0" y="1905120"/>
            <a:ext cx="406224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3760" y="5486400"/>
            <a:ext cx="516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кушка калифорний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ли бегающ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тенец%20обыкновенной%20кукушки%20в%20гнезде%20другой%20птицы,%20которая%20принимает%20его%20за%20своего%20птенца" descr=""/>
          <p:cNvPicPr/>
          <p:nvPr/>
        </p:nvPicPr>
        <p:blipFill>
          <a:blip r:embed="rId2"/>
          <a:stretch/>
        </p:blipFill>
        <p:spPr>
          <a:xfrm>
            <a:off x="3594240" y="0"/>
            <a:ext cx="554976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Яйцо%20обыкновенной%20кукушки%20(слева)%20в%20гнезде%20другой%20птицы" descr=""/>
          <p:cNvPicPr/>
          <p:nvPr/>
        </p:nvPicPr>
        <p:blipFill>
          <a:blip r:embed="rId3"/>
          <a:stretch/>
        </p:blipFill>
        <p:spPr>
          <a:xfrm>
            <a:off x="0" y="0"/>
            <a:ext cx="397980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2760" y="550548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мышев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кворец%20обыкновенный%202" descr=""/>
          <p:cNvPicPr/>
          <p:nvPr/>
        </p:nvPicPr>
        <p:blipFill>
          <a:blip r:embed="rId2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080" y="14292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ворец обыкновен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Пеночка-теньковка" descr=""/>
          <p:cNvPicPr/>
          <p:nvPr/>
        </p:nvPicPr>
        <p:blipFill>
          <a:blip r:embed="rId3"/>
          <a:stretch/>
        </p:blipFill>
        <p:spPr>
          <a:xfrm>
            <a:off x="4267080" y="2833560"/>
            <a:ext cx="4876920" cy="402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6480" y="591192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ноч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ньк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Конёк%20лугово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9240" y="611496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ек луг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Чечевица%20большая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08440" y="24768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чев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4200" y="1206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Ржанкообраз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чайка" descr=""/>
          <p:cNvPicPr/>
          <p:nvPr/>
        </p:nvPicPr>
        <p:blipFill>
          <a:blip r:embed="rId2"/>
          <a:stretch/>
        </p:blipFill>
        <p:spPr>
          <a:xfrm>
            <a:off x="0" y="703440"/>
            <a:ext cx="9144000" cy="615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04800" y="54291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Крачка%20полярная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22840" y="32400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ачка поляр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Кулик-сорока%20обыкновенный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9040" y="5505480"/>
            <a:ext cx="56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лик-сорока обыкно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Гагарка%20бескрылая%20(окончательно%20уничтожен%20в%201844)" descr=""/>
          <p:cNvPicPr/>
          <p:nvPr/>
        </p:nvPicPr>
        <p:blipFill>
          <a:blip r:embed="rId2"/>
          <a:stretch/>
        </p:blipFill>
        <p:spPr>
          <a:xfrm>
            <a:off x="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4800" y="762120"/>
            <a:ext cx="37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агарка бескрыл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окончатель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ичтоже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5:44:29Z</dcterms:created>
  <dc:creator>KIRILL</dc:creator>
  <dc:description/>
  <dc:language>en-US</dc:language>
  <cp:lastModifiedBy>кирилл</cp:lastModifiedBy>
  <dcterms:modified xsi:type="dcterms:W3CDTF">2005-08-24T06:01:18Z</dcterms:modified>
  <cp:revision>3</cp:revision>
  <dc:subject/>
  <dc:title>Презентация PowerPoint</dc:title>
</cp:coreProperties>
</file>